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E264-0261-454A-81C8-C6E8D514D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D055-5A0E-4FA6-BC7D-D2C38D729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688-4FEE-4185-A10A-C7C0768F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E63-52DE-4596-A9F9-E163D6E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F93-3D03-4E27-8BC1-ED2AC395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538-284C-4475-83D4-B7B437DA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3B15-6FAF-4624-98C3-AF5330A7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EB7C-5B37-4ACE-B7E6-7B14013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6A3A-A27A-41A9-B014-5B243785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5A22-9C4C-41C5-87E0-6C43753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1AE-E229-4B09-BE32-4E99932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53A8-1A1F-43A5-8D2D-0F505F5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028-6A95-4058-B362-0607199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15A-AAC7-4119-9BD6-2F4C1E4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887-B0CE-4C0E-ACD3-2EA7AC2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84B-ACF6-415C-8D44-88948F1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C2EE-FDE0-4E2D-A19C-1E157EA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9AE5-FD18-40ED-9BB6-6B748B8B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AE8C-156D-44F6-BE3B-C6E32EB5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12F5-D2F4-4104-AB19-EB37E97E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AB45-2C78-4BC3-81CA-788942D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EBCA-04D3-4365-8978-03DCF4C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44C5-8EBB-42D0-8850-236400D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10DD-8BAB-4F06-926E-12D12A1F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7D1-FB28-4DEF-A4DD-8BEE78E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1D5A-440C-420B-9BD2-87F69F8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B33E-DB0D-44BE-A402-276D4AD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9D4B-A8A6-4748-80BC-DB4AB92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5AAD-4B1E-4FC0-B8CC-6F7DE38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5BB2-9385-411A-8108-CA68C8F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3450-373B-446D-AD9E-4A697359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929A-9FC9-4E10-8A39-D9D8906D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A0EF-8DE4-405E-8BE6-C42BF2E6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3DDC-6A42-44CE-8A62-695A88A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8538-A756-4197-ABEE-02D4CE6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D2B-4F48-4B5A-B894-489C455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DD22-8E75-4CBE-BDED-076FE3D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413A-10B5-4FD9-A0E8-8B74609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6689-C262-4B58-A4AD-FD16246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E6C0-EA7D-4524-ACEE-E5EB003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839E-9F1A-4F24-A2C9-59094E1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0F19-78F5-4ABD-B1EF-1222901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6E43-8431-4A7B-AE79-034DF4E5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F346-B168-4F32-B4E4-913417BD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C798-2149-41D2-96AE-7134BA03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17EC-28FB-480E-B6C7-9121DD85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BD2-0028-4A9D-812A-F86B6FC0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34BD-3B25-4D53-8431-BA73757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EC21-034F-4237-AF6C-C9FF173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37A2-4151-4F6C-8F84-3BA199A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369A-B39D-4441-8CC2-B0FA8A82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7C363-4F77-4CD6-9446-EB36C754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6724-0F00-43C5-A9BA-0E55044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971E-054F-4452-9265-CEF7300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4E8A-45B4-423F-B636-F32D007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1C70-04DB-4FBA-8AB2-9A173ED7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B06A-051D-4E88-BB52-C6D3A3A9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773-F554-4CC0-A637-AB087282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0427-5AEE-4B75-9C1F-56BED2B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228E-5C3F-46A0-80CE-A6570FE3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D36A-DAE6-48D8-A9F7-BB5F2465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8737-8E23-4369-8919-D31DCFE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9447-1A0B-4A90-90CD-9BA79E78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F7C17-8155-45CE-8D47-5FBAF69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DAFD-F4F6-47E5-8604-57250D3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2050D-2B91-445F-B381-23C2483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DC81-A123-4697-B219-9D7939B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340A-A821-4FA2-B1AB-3C0E2BF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CFD-CA9B-4606-AC02-F97ADE7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50F2-9E8F-479A-8174-DD3A0A2E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498F4-47F6-4960-B20B-511FAE9B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9F01-F25F-4880-B272-AC239959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9472F-B4E8-404F-AD4F-92383140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18318-2669-4572-8222-A0871FD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B7632-E040-4301-B615-6D1473DE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06BBE-9F8B-4C97-9684-9B56E077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62087-FC84-43B0-8949-4D4F866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33B31-FFDB-4EBF-8E8B-3D6DB62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99425-16F7-4147-8D59-E7E6E9DF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C9C-C349-4D4D-A61E-367C010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9F802-9135-4BA9-8AFF-5ACEE01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C432A-CDDB-4144-A7B0-A8065CA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1773B-97AF-427D-8F05-E09E7503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990F5-103D-432D-819E-38E99C90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EC0A3-84C8-477F-BB8F-30D399A4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FB41-7549-48F2-A9AC-B34EEF51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0749-1A7A-48C1-9A55-3A6D1BB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85C98-8D3A-4CAB-99F5-55E1FD9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DBDBF-B2C5-4DC2-BF10-0EAECD5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3594-6DD8-4DE9-91A9-5B06AA3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4F3-C392-4D80-8F13-40F4DD6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720E-3A0E-4195-A17E-18CC4B0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F504-2524-46CC-9FF4-5ACCC5A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4220-C560-4008-A5C9-33FA2328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AA73-9805-4355-A2ED-DB8A515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E6F0D-EC3C-4E97-88EB-2BC61CA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6EDDC-A693-47C3-BE84-E5463E72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88C3-5EAE-4015-A304-50616341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66AE-9C3E-4017-8166-6E1EE59ED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3F7-DB89-4D07-A76C-FC4D22C5D72A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B54-3EAB-47F3-B219-558A7D49CA81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68D7-2F05-42E3-8B8C-1297A03A02FE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FB1-4D5B-4644-9288-95872655405B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B170-D308-43CB-9894-DED0518E87ED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022-CE00-4007-A9C5-EAE41288033C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7CE-59E2-4B2D-BFB2-839E0467B1BD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899-E154-425B-B447-6626B301266B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BDB-BABD-405F-9858-1FADEC126996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D9C-AFE4-4A1B-95A1-BAB3AED3AD6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7B2-CE44-4B59-9097-B4C695F61A1A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8225-BA60-43A8-8D68-0C29F99D76A7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0F3-41B5-42E0-89A4-26271A6F3449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588-FE70-4B8F-A848-F64E36877B6E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3960" y="162828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КОНЦЕПЦИЯ РАЗВИТИЯ </a:t>
            </a:r>
            <a:r>
              <a:rPr b="1" lang="en-US" sz="2400" spc="-1" strike="noStrike">
                <a:solidFill>
                  <a:srgbClr val="40382d"/>
                </a:solidFill>
                <a:latin typeface="Book Antiqua"/>
              </a:rPr>
              <a:t>Г</a:t>
            </a: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.ВЛАДИКАВКАЗ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19640" y="2997360"/>
            <a:ext cx="2232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«5</a:t>
            </a:r>
            <a:r>
              <a:rPr b="1" lang="en-US" sz="5400" spc="-1" strike="noStrike">
                <a:solidFill>
                  <a:srgbClr val="6c271b"/>
                </a:solidFill>
                <a:latin typeface="Century Gothic"/>
              </a:rPr>
              <a:t>x</a:t>
            </a: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5»</a:t>
            </a:r>
            <a:endParaRPr b="0" lang="en-US" sz="5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954000" y="4194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достижений за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благодаря которым Владикавказ станет привлекательн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новых микрорайонов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(Московский квартал, Новый город, Северный)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микрорайонов (микрорайоны №31-32, микрорайон в поселке Карца) 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3:14:09Z</dcterms:created>
  <dc:creator>Вера</dc:creator>
  <dc:description/>
  <dc:language>en-US</dc:language>
  <cp:lastModifiedBy>Вера</cp:lastModifiedBy>
  <dcterms:modified xsi:type="dcterms:W3CDTF">2013-04-17T07:48:32Z</dcterms:modified>
  <cp:revision>2</cp:revision>
  <dc:subject/>
  <dc:title>Концепция развития г.владикавказа</dc:title>
</cp:coreProperties>
</file>